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wmf" ContentType="image/x-wmf"/>
  <Override PartName="/ppt/media/image14.png" ContentType="image/png"/>
  <Override PartName="/ppt/media/image12.wmf" ContentType="image/x-wmf"/>
  <Override PartName="/ppt/media/image11.jpeg" ContentType="image/jpeg"/>
  <Override PartName="/ppt/media/image7.wmf" ContentType="image/x-wmf"/>
  <Override PartName="/ppt/media/image6.wmf" ContentType="image/x-wmf"/>
  <Override PartName="/ppt/media/image10.wmf" ContentType="image/x-wmf"/>
  <Override PartName="/ppt/media/image22.png" ContentType="image/png"/>
  <Override PartName="/ppt/media/image4.wmf" ContentType="image/x-wmf"/>
  <Override PartName="/ppt/media/image20.gif" ContentType="image/gif"/>
  <Override PartName="/ppt/media/image21.wmf" ContentType="image/x-wmf"/>
  <Override PartName="/ppt/media/image18.jpeg" ContentType="image/jpeg"/>
  <Override PartName="/ppt/media/image19.png" ContentType="image/png"/>
  <Override PartName="/ppt/media/image1.png" ContentType="image/png"/>
  <Override PartName="/ppt/media/image17.jpeg" ContentType="image/jpeg"/>
  <Override PartName="/ppt/media/image16.jpeg" ContentType="image/jpeg"/>
  <Override PartName="/ppt/media/image5.wmf" ContentType="image/x-wmf"/>
  <Override PartName="/ppt/media/applause.wav" ContentType="audio/x-wav"/>
  <Override PartName="/ppt/media/image2.wmf" ContentType="image/x-wmf"/>
  <Override PartName="/ppt/media/image15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AED7-7CB8-404D-810C-F63919730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A31A-E63E-46CD-B27B-1C23CA4F8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3413-8923-4B80-95BC-FA67F9097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22AA-CE30-43BA-A710-ABFA4AA7D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0691-1A07-464B-8399-AEB2C0872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2436-80CC-47C3-B0E4-ED2A52839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8989-D481-4A34-9538-003585201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7E65-F45F-4AEA-93BC-ED3F8AE3B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0705-667D-4DE1-BF64-A4DAD0A2A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AC76-EC26-452F-8DC2-E0B1A9501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6EA6-5595-4DA0-B2D8-D35108EEA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5E3D-7A02-4A92-836B-D5B968DE8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8D91-A5D8-46B5-8CC7-AA5E88678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35A7-AC6D-4840-B865-A9E821168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85AF-17D2-4F54-937C-07846EEA4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80EC-87BF-48D4-A950-46D3C1F86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9143-64C7-474F-AAA9-EAE958A74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3295-F82A-44F4-837C-956A297EA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792F-4AB4-470B-9EE3-C762DA762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F863-6C29-4801-96F5-F7DB62B44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4552-5C88-4B5B-9302-39F2F3F1A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30B5-3B0B-4394-AA76-A338A3F87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EDE1-C596-4FE2-A59E-C0C937BEF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5194-3108-45C1-9174-C660C1373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AD4E-3CE7-4656-A25B-4AAB0E05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F10E-6EE7-425B-A53A-3B31F3DEF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F8C8-2479-4740-AC4D-52E614567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80C6-3CF0-4DF1-8EE5-6F70DF1F4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38E9-84F0-4BFE-B95F-A056537F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73FE-D061-487A-BD84-CC59C672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D660-41FA-4DD7-A402-406ECF33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A4D5-B059-42DD-9BE8-58B9DA81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9B63-E25D-4D5E-849F-B69BC069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D427-2149-41B9-AB7A-6A883B02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644A-5A3C-45B9-B6E5-3EAF17F2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01E7-BBC3-4E9C-B5A9-F653A428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BF5B-7FD1-4C69-B7E9-B62F12F2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E43D-94F0-467D-A2CD-900D7348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A165-EFA7-4AD6-BB99-9210D6A7D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842D-12C7-432A-86D7-680682F3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CB55-0636-4876-835D-830C10B2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1F04-AC87-4B6A-ADAD-3CC9B1DB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68DB-007B-48E4-A3E3-CAD811DA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549A-1CC9-4AB1-BCA6-82B4CF0A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F062-DD5A-41B4-B80A-7827D9C7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4B16-6D75-4743-93B2-04C9FC35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0101-A313-4B15-A1A3-66A8E045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4E90-AD85-40A4-8E70-6ACE10E92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18DC-DF29-4424-8DF3-289F6C46D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image" Target="../media/image21.wmf"/><Relationship Id="rId4" Type="http://schemas.openxmlformats.org/officeDocument/2006/relationships/image" Target="../media/image22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7280" y="2852640"/>
            <a:ext cx="7701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OS MEDIOS DE COMUNICACIÓN MASIVA Y EDUCA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42880" y="4190760"/>
            <a:ext cx="73137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. Yolanda Ramírez Villaco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3" descr="MCj02325950000[1]"/>
          <p:cNvPicPr/>
          <p:nvPr/>
        </p:nvPicPr>
        <p:blipFill>
          <a:blip r:embed="rId1"/>
          <a:stretch/>
        </p:blipFill>
        <p:spPr>
          <a:xfrm>
            <a:off x="2571840" y="642960"/>
            <a:ext cx="3632040" cy="1258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rincipales M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71360" y="147492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Publicidad: es esencialmente comer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Propaganda: es esencialmente p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Prensa: el “cuarto pod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Cine: impacto emotivo y capacidad de sín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Radio: es el ámbito de la noti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Televisión: atracción de naturaleza sicológ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2" descr="MCj01977610000[1]"/>
          <p:cNvPicPr/>
          <p:nvPr/>
        </p:nvPicPr>
        <p:blipFill>
          <a:blip r:embed="rId1"/>
          <a:stretch/>
        </p:blipFill>
        <p:spPr>
          <a:xfrm>
            <a:off x="6858000" y="5072040"/>
            <a:ext cx="2000160" cy="154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4320" y="124920"/>
            <a:ext cx="786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Arial"/>
              </a:rPr>
              <a:t>COMO MANEJAR LOS MEDIOS PARA SER EFICIENTES AYUDAS DE LA COMUNICACION INTERPERSONA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DEFIN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00"/>
                </a:solidFill>
                <a:latin typeface="Arial"/>
              </a:rPr>
              <a:t>T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00"/>
                </a:solidFill>
                <a:latin typeface="Arial"/>
              </a:rPr>
              <a:t>PU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00"/>
                </a:solidFill>
                <a:latin typeface="Arial"/>
              </a:rPr>
              <a:t>FORMAS DE U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SELECCIONAR ESTRATEGIA PEDAGOG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00"/>
                </a:solidFill>
                <a:latin typeface="Arial"/>
              </a:rPr>
              <a:t>MOTIV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00"/>
                </a:solidFill>
                <a:latin typeface="Arial"/>
              </a:rPr>
              <a:t>PRESENTACION DE EXPL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00"/>
                </a:solidFill>
                <a:latin typeface="Arial"/>
              </a:rPr>
              <a:t>PROMOCION Y CONDUCCION DEL DEB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00"/>
                </a:solidFill>
                <a:latin typeface="Arial"/>
              </a:rPr>
              <a:t>ORIENTAR LA TOMA DE DECI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00"/>
                </a:solidFill>
                <a:latin typeface="Arial"/>
              </a:rPr>
              <a:t>REFORZAMIENTO DE CONOCIMI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00"/>
                </a:solidFill>
                <a:latin typeface="Arial"/>
              </a:rPr>
              <a:t>SEGUIMIENTO AL PROCESO DE APRENDIZ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MCj03342740000[1]"/>
          <p:cNvPicPr/>
          <p:nvPr/>
        </p:nvPicPr>
        <p:blipFill>
          <a:blip r:embed="rId1"/>
          <a:stretch/>
        </p:blipFill>
        <p:spPr>
          <a:xfrm>
            <a:off x="6227640" y="1557360"/>
            <a:ext cx="1573200" cy="1820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</a:rPr>
              <a:t>LA TELE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7560" y="1701720"/>
            <a:ext cx="7313400" cy="4680000"/>
          </a:xfrm>
          <a:prstGeom prst="rect">
            <a:avLst/>
          </a:prstGeom>
          <a:solidFill>
            <a:srgbClr val="def6f1">
              <a:alpha val="84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utilización de la TV. puede evaluarse desde una perspectiva didáctica y pedagógica. Didácticamente DEBE considerarse esta afirmación: </a:t>
            </a: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el uso de la TV. y los medios audiovisuales no puede entenderse con exclusiv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olo podrá tener sentido instructivo y educativo en la medida en que se lo use en combinación con otros procedimientos que estimulen la motivación y actividad docentes. No solo hay que considerar el contexto educativo y didáctico, sino también el contexto humano y socio-económico en gen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MPj04074430000[1]"/>
          <p:cNvPicPr/>
          <p:nvPr/>
        </p:nvPicPr>
        <p:blipFill>
          <a:blip r:embed="rId1"/>
          <a:stretch/>
        </p:blipFill>
        <p:spPr>
          <a:xfrm>
            <a:off x="6300720" y="189000"/>
            <a:ext cx="210024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Los rasgos de los mensajes sociales que reciben los menores a través de la televisión,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03280" y="1711440"/>
            <a:ext cx="7313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Estimulación de las opiniones estereotipadas respecto a temas sociales. Lógicamente también se puede lograr el efecto contrario y más deseable que es la eliminación de estereotip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Estimulación de sentimientos adversivos o de aceptación de los grupos sociales minoritari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Los rasgos de los mensajes sociales que reciben los menores a través de la televisión,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03280" y="1711440"/>
            <a:ext cx="7561440" cy="4525920"/>
          </a:xfrm>
          <a:prstGeom prst="rect">
            <a:avLst/>
          </a:prstGeom>
          <a:solidFill>
            <a:srgbClr val="8dc6ff">
              <a:alpha val="4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educción o exaltación del etnocentrismo nacio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Impacto de los fines sobre las opin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econocimiento de personajes o identificación con ellos. También aprendizaje de la capacidad de predicación dada la recurrencia de programas, publicidad y estructura narrativa de los fil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Esto implica que los niños pueden utilizar las similitudes entre los personajes cinematográficos y las personas reales, para establecer generalidades del comportamiento hum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Los rasgos de los mensajes sociales que reciben los menores a través de la televisión,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03280" y="1711440"/>
            <a:ext cx="741672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ayores poderes de transmisión de mensajes emocionales, tanto positivos como negativos, unidos a la percepción de realidades que los acompañ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prendizaje del papel de consumido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MCj03974360000[1]"/>
          <p:cNvPicPr/>
          <p:nvPr/>
        </p:nvPicPr>
        <p:blipFill>
          <a:blip r:embed="rId1"/>
          <a:stretch/>
        </p:blipFill>
        <p:spPr>
          <a:xfrm>
            <a:off x="5940360" y="4581360"/>
            <a:ext cx="2160720" cy="1151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MCj03967300000[1]"/>
          <p:cNvPicPr/>
          <p:nvPr/>
        </p:nvPicPr>
        <p:blipFill>
          <a:blip r:embed="rId2"/>
          <a:stretch/>
        </p:blipFill>
        <p:spPr>
          <a:xfrm>
            <a:off x="2050920" y="4508640"/>
            <a:ext cx="1825920" cy="1130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http://demo.claroline.net/claroline/backends/download.php?url=LzIwMDgwNzE4X1RJQ1MucG5n&amp;cidReset=true&amp;cidReq=TICEDU9028"/>
          <p:cNvPicPr/>
          <p:nvPr/>
        </p:nvPicPr>
        <p:blipFill>
          <a:blip r:embed="rId1"/>
          <a:stretch/>
        </p:blipFill>
        <p:spPr>
          <a:xfrm>
            <a:off x="6881760" y="0"/>
            <a:ext cx="2262240" cy="21366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4280" y="142560"/>
            <a:ext cx="56246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Las Tecnologías de Información y Comunicación - 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90440" y="1332000"/>
            <a:ext cx="683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Arial"/>
              </a:rPr>
              <a:t>Son aquellas herramientas computacionales e informáticas que procesan, almacenan, sintetizan, recuperan y presentan información representada de la más variada form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Arial"/>
              </a:rPr>
              <a:t>Conjunto de herramientas, soportes y canales para el tratamiento y acceso a la informa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Arial"/>
              </a:rPr>
              <a:t>Constituyen nuevos soportes y canales para dar forma, registrar, almacenar y difundir contenidos informaciona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214200"/>
            <a:ext cx="7313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Las TICs y la edu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4280" y="1285920"/>
            <a:ext cx="7313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El uso pedagógico de estas herramientas tecnológicas debe vincularse al desarrollo de potencialidades, orientadas a la construcción de conocimiento y formación de un ciudadano y una ciudadana con principios, virtudes y valores de libertad, cooperación, solidaridad convivencia, unidad e integración, que garantice la dignidad y el bienestar individual y colec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http://paojuanpa.files.wordpress.com/2009/03/las-tics.jpg"/>
          <p:cNvPicPr/>
          <p:nvPr/>
        </p:nvPicPr>
        <p:blipFill>
          <a:blip r:embed="rId1"/>
          <a:stretch/>
        </p:blipFill>
        <p:spPr>
          <a:xfrm>
            <a:off x="4071960" y="4357800"/>
            <a:ext cx="321480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000080" y="1357200"/>
            <a:ext cx="79819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800" spc="-1" strike="noStrike">
                <a:solidFill>
                  <a:srgbClr val="000000"/>
                </a:solidFill>
                <a:latin typeface="Arial"/>
              </a:rPr>
              <a:t>Reconocer el potencial que ofrecen las TIC para la construcción de una sociedad que respete al ser humano, al ambiente y la diversidad de entornos socioculturales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Usar las aplicaciones de escritorio en el desarrollo de proyectos, la elaboración de metodologías, interacción con el entorno social, el procesamiento de la información y la presentación de resul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560" y="14256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ORGANIZACIÓN DE LOS APRENDIZAJES</a:t>
            </a:r>
            <a:br>
              <a:rPr sz="2800"/>
            </a:br>
            <a:r>
              <a:rPr b="1" lang="es-PE" sz="2800" spc="-1" strike="noStrike">
                <a:solidFill>
                  <a:srgbClr val="000099"/>
                </a:solidFill>
                <a:latin typeface="Arial"/>
              </a:rPr>
              <a:t>Y LA INCLUSIÓN DE LAS TECNOLOG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http://blog.pucp.edu.pe/media/2064/20080614-tic.jpg"/>
          <p:cNvPicPr/>
          <p:nvPr/>
        </p:nvPicPr>
        <p:blipFill>
          <a:blip r:embed="rId1"/>
          <a:stretch/>
        </p:blipFill>
        <p:spPr>
          <a:xfrm>
            <a:off x="6786720" y="5357880"/>
            <a:ext cx="2071440" cy="1350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http://bp0.blogger.com/_xT4B9UeoGLs/Rz5o-MO4fWI/AAAAAAAAAFM/YuN1pLITTkk/s320/Copia+de+cerrebro.bmp"/>
          <p:cNvPicPr/>
          <p:nvPr/>
        </p:nvPicPr>
        <p:blipFill>
          <a:blip r:embed="rId1"/>
          <a:stretch/>
        </p:blipFill>
        <p:spPr>
          <a:xfrm>
            <a:off x="6715080" y="142884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http://bp1.blogger.com/_R6Iqr8JiOjs/Ri0dYfE5GuI/AAAAAAAAAAk/Z2oGu1S7cpA/s320/tic%27s.jpg"/>
          <p:cNvPicPr/>
          <p:nvPr/>
        </p:nvPicPr>
        <p:blipFill>
          <a:blip r:embed="rId2"/>
          <a:stretch/>
        </p:blipFill>
        <p:spPr>
          <a:xfrm>
            <a:off x="6797520" y="4357800"/>
            <a:ext cx="2181240" cy="20714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ORGANIZACIÓN DE LOS APRENDIZAJES</a:t>
            </a:r>
            <a:br>
              <a:rPr sz="2800"/>
            </a:br>
            <a:r>
              <a:rPr b="1" lang="es-PE" sz="2800" spc="-1" strike="noStrike">
                <a:solidFill>
                  <a:srgbClr val="000099"/>
                </a:solidFill>
                <a:latin typeface="Arial"/>
              </a:rPr>
              <a:t>Y LA INCLUSIÓN DE LAS TECNOLOG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56800" y="1457280"/>
            <a:ext cx="607212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Buscar, seleccionar y procesar información para los aprendizajes a partir de medios de comunicación e información (radio, TV, prensa, cine, Internet, entre otros) y softwares educativos (tutoriales, simuladores, enciclopedias, entre otros) = </a:t>
            </a:r>
            <a:r>
              <a:rPr b="1" i="1" lang="es-PE" sz="2400" spc="-1" strike="noStrike">
                <a:solidFill>
                  <a:srgbClr val="ff0000"/>
                </a:solidFill>
                <a:latin typeface="Arial"/>
              </a:rPr>
              <a:t>enfoque multidisciplinario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Desarrollar ambientes de aprendizaje en línea: uso de </a:t>
            </a:r>
            <a:r>
              <a:rPr b="1" lang="es-PE" sz="2400" spc="-1" strike="noStrike">
                <a:solidFill>
                  <a:srgbClr val="000099"/>
                </a:solidFill>
                <a:latin typeface="Arial"/>
              </a:rPr>
              <a:t>espacios virtuales 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de organización y difusión de conocimi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RAICES DEL VERBO COMUNI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5640" y="1599840"/>
            <a:ext cx="370044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El más usu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Asimila comunicar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inform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divulg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transmiti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572000" y="1600200"/>
            <a:ext cx="438300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El más antigu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roviene de la palabra latina “comunicare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estar en relac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oner en comú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>
            <a:off x="2556000" y="378936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>
            <a:off x="6948360" y="378936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403280" y="450864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RESTRI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5435640" y="44370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AMPLIA Y ABIE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MCj03342680000[1]"/>
          <p:cNvPicPr/>
          <p:nvPr/>
        </p:nvPicPr>
        <p:blipFill>
          <a:blip r:embed="rId1"/>
          <a:stretch/>
        </p:blipFill>
        <p:spPr>
          <a:xfrm>
            <a:off x="5940360" y="5126040"/>
            <a:ext cx="1670040" cy="1616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MCj03341020000[1]"/>
          <p:cNvPicPr/>
          <p:nvPr/>
        </p:nvPicPr>
        <p:blipFill>
          <a:blip r:embed="rId2"/>
          <a:stretch/>
        </p:blipFill>
        <p:spPr>
          <a:xfrm>
            <a:off x="1852560" y="5068800"/>
            <a:ext cx="1206720" cy="1384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Funcionalidad de las TICs en la 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285920" y="1457280"/>
            <a:ext cx="76960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Fuente de </a:t>
            </a:r>
            <a:r>
              <a:rPr b="1" lang="es-PE" sz="2800" spc="-1" strike="noStrike">
                <a:solidFill>
                  <a:srgbClr val="000099"/>
                </a:solidFill>
                <a:latin typeface="Arial"/>
              </a:rPr>
              <a:t>información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 (hipermedia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Canal de </a:t>
            </a:r>
            <a:r>
              <a:rPr b="1" lang="es-PE" sz="2800" spc="-1" strike="noStrike">
                <a:solidFill>
                  <a:srgbClr val="000099"/>
                </a:solidFill>
                <a:latin typeface="Arial"/>
              </a:rPr>
              <a:t>comunicación interpersonal 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y para el trabajo colaborativo y para el intercambio de información e ideas (e-mail, foros telemátic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Medio de </a:t>
            </a:r>
            <a:r>
              <a:rPr b="1" lang="es-PE" sz="2800" spc="-1" strike="noStrike">
                <a:solidFill>
                  <a:srgbClr val="000099"/>
                </a:solidFill>
                <a:latin typeface="Arial"/>
              </a:rPr>
              <a:t>expresión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 y para la </a:t>
            </a:r>
            <a:r>
              <a:rPr b="1" lang="es-PE" sz="2800" spc="-1" strike="noStrike">
                <a:solidFill>
                  <a:srgbClr val="000099"/>
                </a:solidFill>
                <a:latin typeface="Arial"/>
              </a:rPr>
              <a:t>creación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 (procesadores de textos y gráficos, editores de páginas web y presentaciones multimedia, cámara de víde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Funcionalidad de las TICs en la 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305000" y="1571400"/>
            <a:ext cx="769608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99"/>
                </a:solidFill>
                <a:latin typeface="Arial"/>
              </a:rPr>
              <a:t>Instrumento cognitivo 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y para procesar la información: hojas de cálculo, gestores de bases de dato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99"/>
                </a:solidFill>
                <a:latin typeface="Arial"/>
              </a:rPr>
              <a:t>Instrumento para la gestión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, ya que automatizan diversos trabajos de la gestión de los centros: secretaría, acción tutorial, asistencias, bibliotec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99"/>
                </a:solidFill>
                <a:latin typeface="Arial"/>
              </a:rPr>
              <a:t>Recurso interactivo para el aprendizaje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. Los materiales didácticos multimedia informan, entrenan, simulan guían aprendizajes, motivan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Medio lúdico y para el desarrollo psicomotor y </a:t>
            </a:r>
            <a:r>
              <a:rPr b="1" lang="es-PE" sz="2400" spc="-1" strike="noStrike">
                <a:solidFill>
                  <a:srgbClr val="def6f1"/>
                </a:solidFill>
                <a:latin typeface="Arial"/>
              </a:rPr>
              <a:t>cogn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i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3 Rectángulo" descr=""/>
          <p:cNvPicPr/>
          <p:nvPr/>
        </p:nvPicPr>
        <p:blipFill>
          <a:blip r:embed="rId1"/>
          <a:stretch/>
        </p:blipFill>
        <p:spPr>
          <a:xfrm>
            <a:off x="1066680" y="1427040"/>
            <a:ext cx="6066000" cy="3462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mains-05"/>
          <p:cNvPicPr/>
          <p:nvPr/>
        </p:nvPicPr>
        <p:blipFill>
          <a:blip r:embed="rId2"/>
          <a:stretch/>
        </p:blipFill>
        <p:spPr>
          <a:xfrm>
            <a:off x="5786280" y="4000680"/>
            <a:ext cx="2286000" cy="2071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MCj03357390000[1]"/>
          <p:cNvPicPr/>
          <p:nvPr/>
        </p:nvPicPr>
        <p:blipFill>
          <a:blip r:embed="rId3"/>
          <a:stretch/>
        </p:blipFill>
        <p:spPr>
          <a:xfrm>
            <a:off x="1143000" y="357120"/>
            <a:ext cx="2001960" cy="1857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http://files.nireblog.com/blogs2/eadmin/files/sistemas_png.PNG"/>
          <p:cNvPicPr/>
          <p:nvPr/>
        </p:nvPicPr>
        <p:blipFill>
          <a:blip r:embed="rId4"/>
          <a:stretch/>
        </p:blipFill>
        <p:spPr>
          <a:xfrm>
            <a:off x="6286680" y="285840"/>
            <a:ext cx="2463480" cy="2208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5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</a:rPr>
              <a:t>MODELOS DE COMUNICA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258920" y="1844640"/>
            <a:ext cx="1944720" cy="1008000"/>
          </a:xfrm>
          <a:prstGeom prst="rightArrow">
            <a:avLst>
              <a:gd name="adj1" fmla="val 50000"/>
              <a:gd name="adj2" fmla="val 482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851280" y="1987560"/>
            <a:ext cx="1728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6372360" y="1844640"/>
            <a:ext cx="194472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1258920" y="213192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EMI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068720" y="21798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ME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6443640" y="2060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RECEP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763640" y="32688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4498920" y="32115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7164360" y="32115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2340000" y="3500280"/>
            <a:ext cx="1871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5148360" y="3500280"/>
            <a:ext cx="1871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4067280" y="4149720"/>
            <a:ext cx="48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LA TRANSMISION DE MENSAJES ES EN FORMA LINEAL, UNIDIRECCIONAL, QUE ACTUA DESDE EL QUE SABE AL QUE IGNORA, DESDE EL DOMINANTE AL DOMI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7" descr="MCj03341280000[1]"/>
          <p:cNvPicPr/>
          <p:nvPr/>
        </p:nvPicPr>
        <p:blipFill>
          <a:blip r:embed="rId1"/>
          <a:stretch/>
        </p:blipFill>
        <p:spPr>
          <a:xfrm>
            <a:off x="1619280" y="4508640"/>
            <a:ext cx="1089000" cy="1819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16"/>
          <p:cNvSpPr/>
          <p:nvPr/>
        </p:nvSpPr>
        <p:spPr>
          <a:xfrm rot="10800000">
            <a:off x="5867280" y="1844640"/>
            <a:ext cx="2881440" cy="1008000"/>
          </a:xfrm>
          <a:prstGeom prst="rightArrow">
            <a:avLst>
              <a:gd name="adj1" fmla="val 50000"/>
              <a:gd name="adj2" fmla="val 714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</a:rPr>
              <a:t>MODELOS DE COMUNICA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611280" y="1844640"/>
            <a:ext cx="2881080" cy="1008000"/>
          </a:xfrm>
          <a:prstGeom prst="rightArrow">
            <a:avLst>
              <a:gd name="adj1" fmla="val 50000"/>
              <a:gd name="adj2" fmla="val 714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3851280" y="1987560"/>
            <a:ext cx="1728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826920" y="2131920"/>
            <a:ext cx="259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Arial"/>
              </a:rPr>
              <a:t>INTERLOCU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068720" y="21798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ME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6227640" y="2060640"/>
            <a:ext cx="26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Arial"/>
              </a:rPr>
              <a:t>INTERLOCU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763640" y="3213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4498920" y="32115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7307280" y="31971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2"/>
          <p:cNvSpPr/>
          <p:nvPr/>
        </p:nvSpPr>
        <p:spPr>
          <a:xfrm>
            <a:off x="2340000" y="3500280"/>
            <a:ext cx="1871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3851280" y="4365720"/>
            <a:ext cx="489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LA TRANSMISION DE MENSAJES PERMITE SOCIALIZAR EL CONOCIMIENTO O SABER, COMPARTIR INFORMACION Y GENERAR PLENA PARTICIPACION DE LOS INVOLUCRADOS EN LA COMUNIC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7"/>
          <p:cNvSpPr/>
          <p:nvPr/>
        </p:nvSpPr>
        <p:spPr>
          <a:xfrm flipH="1">
            <a:off x="5219640" y="3500280"/>
            <a:ext cx="1873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8" descr="j0233018"/>
          <p:cNvPicPr/>
          <p:nvPr/>
        </p:nvPicPr>
        <p:blipFill>
          <a:blip r:embed="rId1"/>
          <a:stretch/>
        </p:blipFill>
        <p:spPr>
          <a:xfrm>
            <a:off x="1042920" y="4365720"/>
            <a:ext cx="2149560" cy="2182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LOS MENSAJES EN LA COMUNIC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042920" y="1268280"/>
            <a:ext cx="2665440" cy="14655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SI EL VALOR DEL MENSAJE ES MAXIMO PARA EL EMISOR Y MINIMO PARA EL RE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042920" y="2997360"/>
            <a:ext cx="2592360" cy="11912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SI EL VALOR DEL MENSAJE ES IGUAL PARA EL EMISOR Y PARA EL RE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900000" y="4653000"/>
            <a:ext cx="2880000" cy="20142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SI EL VALOR DEL MENSAJE ES MAXIMO PARA EL RECEPTOR Y PARTICIPA DE LA PRODUCCION Y REPRODUCCION DE MENSA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3851280" y="1844640"/>
            <a:ext cx="865080" cy="5047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3851280" y="5373720"/>
            <a:ext cx="792000" cy="431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3851280" y="3284640"/>
            <a:ext cx="792000" cy="5047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5003640" y="1628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MANIPULACION: los mensajes son im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4788000" y="5084640"/>
            <a:ext cx="43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COMUNICACION: los mensajes son construidos, en interés mut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4859280" y="306864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INFORMACION: los mensajes son compart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otas Introductorias sobre los M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357200"/>
            <a:ext cx="7313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os Medios de Comunicación Masiva influyen sobre las personas, modificando sus modelos de vida, sus elecciones, sus costumbres, el consumo y la opinión pública.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 cada vez mayor la importancia de los medios masivos y en particular de la televisión. Esta influye sobre la forma de actuar o de pensar de las personas, logra modificar la forma en que los individuos conocen y comprenden la realidad que los ro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MCj03342860000[1]"/>
          <p:cNvPicPr/>
          <p:nvPr/>
        </p:nvPicPr>
        <p:blipFill>
          <a:blip r:embed="rId1"/>
          <a:stretch/>
        </p:blipFill>
        <p:spPr>
          <a:xfrm>
            <a:off x="7429680" y="4786200"/>
            <a:ext cx="1501560" cy="1817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otas Introductorias sobre los M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imagen, hoy constituye el elemento más determinante de las características de nuestra interacción. Cantidad de mensajes nos son transmitidos a través de los MCM, que utilizan fundamentalmente la ima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Según estudios realizados por la UNESCO, mientras que a través del oído se percibe un 20% de comunicaciones y a través de la vista un 30%, cuando se da la combinación de ambos sentidos el porcentaje de eficacia en el aprender se eleva en el 5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unciones didácticas de la imagen móv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7696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ción de motiv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predisposición y sensibilización hacia los materiales de aprendizaj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ción de ilustr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apoyo visual a la explic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ción de fij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reafirman contenidos presentados por otros med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ción de análisi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estudio de los elementos del conju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ción de demostr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representan abstracciones en forma gráf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ción de recapitul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síntesis de otra explicación or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ción de evalu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posibilidad de comparación: oposición, analog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ción de discus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por las funciones anteri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ción de recre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MPj03987890000[1]"/>
          <p:cNvPicPr/>
          <p:nvPr/>
        </p:nvPicPr>
        <p:blipFill>
          <a:blip r:embed="rId1"/>
          <a:stretch/>
        </p:blipFill>
        <p:spPr>
          <a:xfrm>
            <a:off x="7380360" y="4581360"/>
            <a:ext cx="136044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Arial"/>
              </a:rPr>
              <a:t>LOS MCM  Y LA EDUCA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793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Los MCM suelen ser vehículos de transculturación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 Empiezan introduciéndose en una sociedad como objetos curiosos y terminan siendo una necesidad. El régimen industrial con que operan estos medios les hace acuñar signos y símbolos estandarizados y fomentan el consumo pasivo de estos por la ma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El educador es un agente de cambio y necesita saber qué puede hacer con los MCM para influir en el cambio positivo del educando</a:t>
            </a: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educador no debe dudar antes de emprender cualquier acción con los MCM si pretenden: dar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información, enseñar técnicas o cambiar hábit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2T01:21:03Z</dcterms:created>
  <dc:creator>Toshiba</dc:creator>
  <dc:description/>
  <cp:keywords/>
  <dc:language>en-US</dc:language>
  <cp:lastModifiedBy>Yolita</cp:lastModifiedBy>
  <dcterms:modified xsi:type="dcterms:W3CDTF">2009-05-26T21:59:34Z</dcterms:modified>
  <cp:revision>40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3082</vt:lpwstr>
  </property>
</Properties>
</file>